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76CBF-075E-4A06-B6FE-F3FDA1884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F4BED-9C96-44E3-94E5-A01BE4C5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A0820-447D-4919-8FC8-8A49AC1D0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D2C64-A3B6-416A-8F74-281AF4841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25FC-19D0-47EB-B2B7-B53860CB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EB0D-4F75-446D-9166-FE32A39E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2D94-2686-4421-84C6-28A6575B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7145-DCD0-4F38-A4DF-4EA8A3FD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8096-64AF-4D2F-B564-D5577D95E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02D4-1A37-46CF-868A-BBA94607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655F-1211-4281-B2AD-83BF3527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7D7E-71B7-4A09-96D4-783F10FDD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A7A3-D98C-43F9-A2C7-D932DD1D8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ife Energy</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 Portfolio Presentation</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onsabe</a:t>
            </a:r>
            <a:r>
              <a:rPr b="0" lang="en-US" sz="2400" spc="-1" strike="noStrike">
                <a:solidFill>
                  <a:srgbClr val="000000"/>
                </a:solidFill>
                <a:latin typeface="Arial"/>
              </a:rPr>
              <a:t>, John Jasper 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mota</a:t>
            </a:r>
            <a:r>
              <a:rPr b="0" lang="en-US" sz="2400" spc="-1" strike="noStrike">
                <a:solidFill>
                  <a:srgbClr val="000000"/>
                </a:solidFill>
                <a:latin typeface="Arial"/>
              </a:rPr>
              <a:t>, Raniza E.</a:t>
            </a:r>
            <a:endParaRPr b="0" lang="en-US" sz="2400" spc="-1" strike="noStrike">
              <a:solidFill>
                <a:srgbClr val="000000"/>
              </a:solidFill>
              <a:latin typeface="Arial"/>
            </a:endParaRPr>
          </a:p>
        </p:txBody>
      </p:sp>
      <p:pic>
        <p:nvPicPr>
          <p:cNvPr id="43" name="" descr=""/>
          <p:cNvPicPr/>
          <p:nvPr/>
        </p:nvPicPr>
        <p:blipFill>
          <a:blip r:embed="rId1"/>
          <a:stretch/>
        </p:blipFill>
        <p:spPr>
          <a:xfrm>
            <a:off x="3429000" y="2362320"/>
            <a:ext cx="236232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Unit Summa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unit they will learn the different process involving life energy namely photosynthesis, cellular respiration and fermentation and be able to appreciate the importance of the creatures that contributes to these proc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FQ’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Ques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an we save the environment from total damag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Ques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re the processes involving life energy?</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Question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Photosynthesi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Cellular Respira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Fermenta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Vision for Uni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reating this unit, I want to</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y new strategies in teaching the process of Life Energy among the students.</a:t>
            </a: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unit, I want my students to</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critical thinking among the students.</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collaborative learning among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Experi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udents will;</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bserve how respiration process occurs on hydrilla.</a:t>
            </a:r>
            <a:endParaRPr b="0" lang="en-US" sz="3200" spc="-1" strike="noStrike">
              <a:solidFill>
                <a:srgbClr val="000000"/>
              </a:solidFill>
              <a:latin typeface="Arial"/>
            </a:endParaRPr>
          </a:p>
          <a:p>
            <a:pPr lvl="2" marL="1143000" indent="-228600" algn="just">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he importance of the interdependency of living things by the impact of life energy in our ecosystem.</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te a controlled experiment looking at different aspects of photosynth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uring the experiment they will tak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ach group will then make a creative power point presentation and present this to the cla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ssessment Summary</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	</a:t>
            </a:r>
            <a:endParaRPr b="0" lang="en-US" sz="3500" spc="-1" strike="noStrike">
              <a:solidFill>
                <a:srgbClr val="000000"/>
              </a:solidFill>
              <a:latin typeface="Arial"/>
            </a:endParaRPr>
          </a:p>
        </p:txBody>
      </p:sp>
      <p:sp>
        <p:nvSpPr>
          <p:cNvPr id="56" name=""/>
          <p:cNvSpPr/>
          <p:nvPr/>
        </p:nvSpPr>
        <p:spPr>
          <a:xfrm>
            <a:off x="533520" y="1733400"/>
            <a:ext cx="807696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tudents were given a review about the basic concepts of life energy and about the proper handling of laboratory equipment; this is to refresh their mind and to prepare them for the lesson and activities. They will also have a hands-on activity on hydrilla, the teacher will go around observing whether the students are performing the experiment correctly and if ever not, the teacher will assist the students. The students will also create a controlled experiment looking at different aspects of photosynthesis. They will compare the growth of plants placed in different type of soil, different types of light and different temperatures. Through these experiments, the students are expected to reflect on each of the experiment. After this, they will be required to make a power point presentation, this must have the following: 1. Major environmental problem 2. Cause of this major environmental problem 3. Doable solution to this major environmental problem. This will be graded according to the rubric. The students will also have a moving exam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4T07:02:46Z</dcterms:created>
  <dc:creator>nave</dc:creator>
  <dc:description/>
  <dc:language>en-US</dc:language>
  <cp:lastModifiedBy>nave1386</cp:lastModifiedBy>
  <dcterms:modified xsi:type="dcterms:W3CDTF">2010-09-20T19:53:37Z</dcterms:modified>
  <cp:revision>5</cp:revision>
  <dc:subject/>
  <dc:title>Life Energy</dc:title>
</cp:coreProperties>
</file>